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C574-E6DC-42BC-A0F6-76F942F70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1089-18BD-4F83-8AFA-FEA16AA41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E40-DA9D-4167-AED4-89A53AD5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217-1C46-491E-9E92-8F008E5E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8C0-BD15-4195-9413-707C6410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B14-86E0-4D45-B728-8588F5E2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7C5-1C9D-4D35-A29A-FD156ABB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1E0-A8BE-48E5-8A27-3D9B5F35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FA3-2E43-4DD8-A031-B07D3290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9CC-DD66-4209-B7BC-1A7EF729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164-7967-4B2B-B95D-FA6B7E3C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C78-3068-40BF-9EB3-20640AD4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B59-0291-4627-AEF3-329D438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025-7215-445D-B71A-68F47FB7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64BE-7C9C-4736-B2E8-824164DAC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IC</a:t>
            </a:r>
            <a:br>
              <a:rPr sz="8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Bring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lue to 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Sidebar:  The Glue at the Heart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" y="609480"/>
            <a:ext cx="8534520" cy="63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ons are majority “silent partners” in ordinary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A. Gluon self-interactions responsible for novel features of QCD            B. Not apparent in quantum #’s, but dominate mass of visible universe                                 C. Apparent untamed growth in gluon density at low x, high Q</a:t>
            </a:r>
            <a:r>
              <a:rPr b="1" lang="en-US" sz="1800" spc="-1" strike="noStrike" baseline="36000">
                <a:solidFill>
                  <a:srgbClr val="d60093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(HE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 gluons play an important role in proton sp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A. “Missing spin” problem                                                                            B. Launch of RHIC spin program + early constraints on gluon pol’n       C. Direct sensitivity via photon-gluon fusion processes                           D. Ultimate determination by scaling violations in DIS @ E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at QCD giveth, QCD taketh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A. Competition between gluon splitting and recombination </a:t>
            </a:r>
            <a:r>
              <a:rPr b="1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 saturation B. Do all protons and nuclei look the same when viewed at high energy? C. Search for universal saturated gluonic matter at E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ons made manif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A. Are there excited states of hadrons where gluons contribute directly to exotic quantum #’s?                                                                                       B. Photo-excitation as the way to excite gluonic vibrations                        C. GLUEx experiment at upgraded CEB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ons dominate Q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CD is 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undamen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ory that describes structure and interactions in nuclear ma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gluons there are no protons, no neutrons, and no atomic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2c6"/>
                </a:solidFill>
                <a:latin typeface="Arial"/>
              </a:rPr>
              <a:t>The essential features of QCD (e.g. asymptotic freedom, chiral symmetry breaking, and color confinement) are all driven by the glu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2c6"/>
                </a:solidFill>
                <a:latin typeface="Arial"/>
              </a:rPr>
              <a:t>Unique aspect of QCD is the self interaction of the glu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2c6"/>
                </a:solidFill>
                <a:latin typeface="Arial"/>
              </a:rPr>
              <a:t>98% of mass of the visible universe arises from g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2c6"/>
                </a:solidFill>
                <a:latin typeface="Arial"/>
              </a:rPr>
              <a:t>Half of the nucleon momentum is carried by glu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gluons are dark: they do not interact directly with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energy collid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891-FF1A-4AC6-ADF4-86D6D4923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5"/>
          <p:cNvGrpSpPr/>
          <p:nvPr/>
        </p:nvGrpSpPr>
        <p:grpSpPr>
          <a:xfrm>
            <a:off x="4724280" y="2514600"/>
            <a:ext cx="4191120" cy="4005360"/>
            <a:chOff x="4724280" y="2514600"/>
            <a:chExt cx="4191120" cy="4005360"/>
          </a:xfrm>
        </p:grpSpPr>
        <p:pic>
          <p:nvPicPr>
            <p:cNvPr id="53" name="Picture 22" descr=""/>
            <p:cNvPicPr/>
            <p:nvPr/>
          </p:nvPicPr>
          <p:blipFill>
            <a:blip r:embed="rId1"/>
            <a:stretch/>
          </p:blipFill>
          <p:spPr>
            <a:xfrm>
              <a:off x="4724280" y="2514600"/>
              <a:ext cx="4191120" cy="40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34"/>
            <p:cNvSpPr/>
            <p:nvPr/>
          </p:nvSpPr>
          <p:spPr>
            <a:xfrm>
              <a:off x="7467480" y="2895480"/>
              <a:ext cx="10670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3" descr="heart2quarks"/>
          <p:cNvPicPr/>
          <p:nvPr/>
        </p:nvPicPr>
        <p:blipFill>
          <a:blip r:embed="rId2"/>
          <a:stretch/>
        </p:blipFill>
        <p:spPr>
          <a:xfrm>
            <a:off x="380880" y="2819520"/>
            <a:ext cx="4114800" cy="3558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232560" y="124776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Low Energy View of Nuclear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= protons +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k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mode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7"/>
          <p:cNvSpPr/>
          <p:nvPr/>
        </p:nvSpPr>
        <p:spPr>
          <a:xfrm>
            <a:off x="7467480" y="0"/>
            <a:ext cx="1295640" cy="61722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172200"/>
              <a:gd name="textAreaBottom" fmla="*/ 6172560 h 6172200"/>
            </a:gdLst>
            <a:ahLst/>
            <a:rect l="textAreaLeft" t="textAreaTop" r="textAreaRight" b="textAreaBottom"/>
            <a:pathLst>
              <a:path w="912" h="4032">
                <a:moveTo>
                  <a:pt x="912" y="4032"/>
                </a:moveTo>
                <a:cubicBezTo>
                  <a:pt x="880" y="4016"/>
                  <a:pt x="848" y="4000"/>
                  <a:pt x="816" y="3936"/>
                </a:cubicBezTo>
                <a:cubicBezTo>
                  <a:pt x="784" y="3872"/>
                  <a:pt x="760" y="3784"/>
                  <a:pt x="720" y="3648"/>
                </a:cubicBezTo>
                <a:cubicBezTo>
                  <a:pt x="680" y="3512"/>
                  <a:pt x="640" y="3352"/>
                  <a:pt x="576" y="3120"/>
                </a:cubicBezTo>
                <a:cubicBezTo>
                  <a:pt x="512" y="2888"/>
                  <a:pt x="432" y="2776"/>
                  <a:pt x="336" y="2256"/>
                </a:cubicBezTo>
                <a:cubicBezTo>
                  <a:pt x="240" y="1736"/>
                  <a:pt x="120" y="868"/>
                  <a:pt x="0" y="0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2"/>
          <p:cNvSpPr/>
          <p:nvPr/>
        </p:nvSpPr>
        <p:spPr>
          <a:xfrm>
            <a:off x="6019920" y="4191120"/>
            <a:ext cx="838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3"/>
          <p:cNvSpPr/>
          <p:nvPr/>
        </p:nvSpPr>
        <p:spPr>
          <a:xfrm>
            <a:off x="6553080" y="3124080"/>
            <a:ext cx="1295640" cy="10670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816" h="672">
                <a:moveTo>
                  <a:pt x="0" y="672"/>
                </a:moveTo>
                <a:cubicBezTo>
                  <a:pt x="76" y="488"/>
                  <a:pt x="152" y="304"/>
                  <a:pt x="288" y="192"/>
                </a:cubicBezTo>
                <a:cubicBezTo>
                  <a:pt x="424" y="80"/>
                  <a:pt x="620" y="40"/>
                  <a:pt x="8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6"/>
          <p:cNvSpPr/>
          <p:nvPr/>
        </p:nvSpPr>
        <p:spPr>
          <a:xfrm>
            <a:off x="4800600" y="12193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High Energy View of Nuclear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sible Universe is generated by quarks, but dominated by the dark gl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7"/>
          <p:cNvSpPr/>
          <p:nvPr/>
        </p:nvSpPr>
        <p:spPr>
          <a:xfrm>
            <a:off x="6785280" y="3505320"/>
            <a:ext cx="102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ctor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osing the high-energy (dark) side of the nucle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91848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304920" y="16765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plore the new QCD fronti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rong color fields in nuc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304920" y="378144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ecisely image the sea-qu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gluons in the nuc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IC science has evolved from new insights and technical accomplishments over the last decade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996 development of GP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~1999 high-power energy recovery linac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0 universal properties of strongly interacting g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0 emergence of transverse-spin phenome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~2001 world’s first high energy polarized proton coll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3 RHIC sees tantalizing hints of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~2006 electron cooling for high-energy bea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543B-722A-477D-B098-7A980B387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E:\ViewGraph.png"/>
          <p:cNvPicPr/>
          <p:nvPr/>
        </p:nvPicPr>
        <p:blipFill>
          <a:blip r:embed="rId1"/>
          <a:stretch/>
        </p:blipFill>
        <p:spPr>
          <a:xfrm>
            <a:off x="291960" y="644400"/>
            <a:ext cx="8623440" cy="60613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80880" y="152280"/>
            <a:ext cx="5257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C in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3114-F397-435F-A13C-980A549F6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HERA did not do EIC phys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 phys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to Ca beams conside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 luminosity (1000 compared to EI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uld have needed ~$100M  to upgrade the source to have more ions, but still the low luminos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ed e-p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RA-p ring is not plan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. of Siberian snake magnets required to polarize beam estimated to be 6-8: Not enough straight sections for Siberian snakes and not enough space in the tunnel for their cryogenic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ly difficu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Y was a HEP laboratory focused on the high energy front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pping and understanding the role of glue in the nucleo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undamental properties of the nucleon are dominated by gluo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2c6"/>
                </a:solidFill>
                <a:latin typeface="Arial"/>
              </a:rPr>
              <a:t>Without the gluons, the nucleon mass would be just 10 MeV (98% of mass of the visible universe arises from glu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2c6"/>
                </a:solidFill>
                <a:latin typeface="Arial"/>
              </a:rPr>
              <a:t>Half of the nucleon momentum is carried by glu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2c6"/>
                </a:solidFill>
                <a:latin typeface="Arial"/>
              </a:rPr>
              <a:t>We expect significant contribution to the proton spin from gl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ull exploration of gluons in the nucleon: gluon-tomography at EIC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Mapping out the gluon helicity contribution to the nucleon spin at the highest energ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Mapping out the space and momentum distributions of the gluons through novel hard exclusive proces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1:03:01Z</dcterms:created>
  <dc:creator>Thomas Ullrich</dc:creator>
  <dc:description/>
  <dc:language>en-US</dc:language>
  <cp:lastModifiedBy>Eyser, Kjeld Oleg</cp:lastModifiedBy>
  <dcterms:modified xsi:type="dcterms:W3CDTF">2014-07-15T17:54:48Z</dcterms:modified>
  <cp:revision>223</cp:revision>
  <dc:subject>SVT Review Talk</dc:subject>
  <dc:title>Impact of the SVT/SSD Material on Electron Measurements in STAR</dc:title>
</cp:coreProperties>
</file>